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6E88-287F-4377-AD27-4330E15D84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, the Oxy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wo members of Group 16, oxygen and sulfur, are essential for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vier members of the group, tellurium and polonium, are both metalloi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one, a less common form of oxygen, is formed in the upper atmosphere through the action of electricity during thunderst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ce of ozone is important because it shields living organisms from some harmful radiation from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 is a solid, yellow non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sulfur are used to manufacture sulfuric acid, one of the most commonly used chemicals in the worl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furic acid is a combination of sulfur, hydrogen, and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in the manufacture of paints, fertilizers, detergents, synthetic fibers, and rub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most important use is as the light-sensitive component in photocopy mach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selenium are also necessary for good heal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6—The Oxyge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20 percent of Earth’s atmosphere is the oxygen you breath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so is required for combustion to occu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abundant in Earth’s rocks and minerals because it readily combines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2C9-EB34-4C10-A291-F8C86941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6B1-63AB-45E2-A3EA-EFF49462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4AD-6A19-4F31-901F-B599880C4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4A5C-E7DC-41D2-A739-C34FF82C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3A4-EE1C-4C88-8969-ED442D6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4D6B-A171-4E91-8F0B-4D3B9F58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441-02E4-4259-9A5E-957C363A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41F-20B6-4153-A081-DD7625F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754-440E-4DEB-AC92-9F03EFC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9AF-9017-4E27-BBA2-003AAAA2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E1E-DA17-40C1-9FB7-B73FD81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F44-A0C8-4947-B1DD-D0EA17A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6B6F-2DFF-429E-A8C0-8F2E77744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6, the Oxy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31112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two members of Group 16, oxygen and sulfur, are essential for lif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422440"/>
            <a:ext cx="42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vier members of the group, tellurium and polonium, are both metalloid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34"/>
          <p:cNvPicPr/>
          <p:nvPr/>
        </p:nvPicPr>
        <p:blipFill>
          <a:blip r:embed="rId1"/>
          <a:stretch/>
        </p:blipFill>
        <p:spPr>
          <a:xfrm>
            <a:off x="5035680" y="2257560"/>
            <a:ext cx="367164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67940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zone, a less common form of oxygen, is formed in the upper atmosphere through the action of electricity during thunderstor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483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esence of ozone is important because it shields living organisms from some harmful radiation from the S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9528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is a solid, yellow nonmet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185724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mounts of sulfur are used to manufacture sulfuric acid, one of the most commonly used chemicals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33520" y="328284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ic acid is a combination of sulfur, hydrogen, and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33520" y="4270320"/>
            <a:ext cx="731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in the manufacture of paints, fertilizers, detergents, synthetic fibers, and rub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6"/>
          <p:cNvGrpSpPr/>
          <p:nvPr/>
        </p:nvGrpSpPr>
        <p:grpSpPr>
          <a:xfrm>
            <a:off x="533520" y="1413000"/>
            <a:ext cx="8076960" cy="2273040"/>
            <a:chOff x="533520" y="1413000"/>
            <a:chExt cx="8076960" cy="2273040"/>
          </a:xfrm>
        </p:grpSpPr>
        <p:sp>
          <p:nvSpPr>
            <p:cNvPr id="68" name="Text Box 7"/>
            <p:cNvSpPr/>
            <p:nvPr/>
          </p:nvSpPr>
          <p:spPr>
            <a:xfrm>
              <a:off x="533520" y="1413000"/>
              <a:ext cx="80769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Selenium conducts electricity when exposed to light, so it is used in solar cells, ligh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874800" y="2276640"/>
              <a:ext cx="2530440" cy="14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meters, and photographic material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most important use is as the light-sensitive component in photocopy machin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2308320"/>
            <a:ext cx="25905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ces of selenium are also necessary for good heal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8 solar cells copy"/>
          <p:cNvPicPr/>
          <p:nvPr/>
        </p:nvPicPr>
        <p:blipFill>
          <a:blip r:embed="rId1"/>
          <a:stretch/>
        </p:blipFill>
        <p:spPr>
          <a:xfrm>
            <a:off x="3352680" y="2406600"/>
            <a:ext cx="5143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71040" y="685800"/>
            <a:ext cx="6363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6—The Oxyge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24128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0 percent of Earth’s atmosphere is the oxygen you breat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3520" y="3641760"/>
            <a:ext cx="3809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also is required for combustion to occu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im35 burning"/>
          <p:cNvPicPr/>
          <p:nvPr/>
        </p:nvPicPr>
        <p:blipFill>
          <a:blip r:embed="rId1"/>
          <a:stretch/>
        </p:blipFill>
        <p:spPr>
          <a:xfrm>
            <a:off x="4038480" y="3200400"/>
            <a:ext cx="4114800" cy="2644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533520" y="22096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is abundant in Earth’s rocks and minerals because it readily combines with other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3:40Z</dcterms:created>
  <dc:creator>CIC1</dc:creator>
  <dc:description/>
  <dc:language>en-US</dc:language>
  <cp:lastModifiedBy>RomaK</cp:lastModifiedBy>
  <dcterms:modified xsi:type="dcterms:W3CDTF">2015-09-01T16:27:33Z</dcterms:modified>
  <cp:revision>7</cp:revision>
  <dc:subject/>
  <dc:title>Group 16, the Oxygen Group</dc:title>
</cp:coreProperties>
</file>